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BEE2-CCEA-4B66-A1FE-885FCA78B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2A12-AE2F-4ED9-9EA0-0F2098C4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AE96-2F55-4547-B885-E5CDB3C13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9953-6BE1-475B-BF9B-1F6F89FB1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1E01-FE12-406F-8A10-6EFB8DD6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10E5-A097-46C2-8E03-ED112AC4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37E3-C336-4546-A499-ED730116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EF8B-DEA6-4DB7-92F7-1B194E57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0560-F377-4FEB-BF37-A97F63FE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73F3-0213-4CF2-9109-D0E9CACA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4595-3B90-4C45-BEBB-4FFB3FCA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105E-133D-46E0-912F-A1EA71BD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F42B-44B4-4F5C-A92E-7E286A521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03680" y="907920"/>
            <a:ext cx="976320" cy="649440"/>
          </a:xfrm>
          <a:custGeom>
            <a:avLst/>
            <a:gdLst>
              <a:gd name="textAreaLeft" fmla="*/ 0 w 976320"/>
              <a:gd name="textAreaRight" fmla="*/ 976680 w 9763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6b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540400" y="907920"/>
            <a:ext cx="976320" cy="649440"/>
          </a:xfrm>
          <a:custGeom>
            <a:avLst/>
            <a:gdLst>
              <a:gd name="textAreaLeft" fmla="*/ 0 w 976320"/>
              <a:gd name="textAreaRight" fmla="*/ 976680 w 9763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6b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360" y="907920"/>
            <a:ext cx="2448000" cy="649440"/>
          </a:xfrm>
          <a:prstGeom prst="rect">
            <a:avLst/>
          </a:prstGeom>
          <a:solidFill>
            <a:srgbClr val="d6bc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11320" y="907920"/>
            <a:ext cx="976320" cy="649440"/>
          </a:xfrm>
          <a:custGeom>
            <a:avLst/>
            <a:gdLst>
              <a:gd name="textAreaLeft" fmla="*/ 0 w 976320"/>
              <a:gd name="textAreaRight" fmla="*/ 976680 w 9763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6b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m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87640" y="907920"/>
            <a:ext cx="302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3640" y="155736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32000" y="1220760"/>
            <a:ext cx="719280" cy="287280"/>
          </a:xfrm>
          <a:prstGeom prst="rect">
            <a:avLst/>
          </a:prstGeom>
          <a:solidFill>
            <a:srgbClr val="d6b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orrect</a:t>
            </a: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rever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87640" y="907920"/>
            <a:ext cx="33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ontrol 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1220760"/>
            <a:ext cx="718920" cy="287280"/>
          </a:xfrm>
          <a:prstGeom prst="rect">
            <a:avLst/>
          </a:prstGeom>
          <a:solidFill>
            <a:srgbClr val="d6b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pprove</a:t>
            </a: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manua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24360" y="1220760"/>
            <a:ext cx="718920" cy="287280"/>
          </a:xfrm>
          <a:prstGeom prst="rect">
            <a:avLst/>
          </a:prstGeom>
          <a:solidFill>
            <a:srgbClr val="d6b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Remove</a:t>
            </a: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rrone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16360" y="1220760"/>
            <a:ext cx="719280" cy="287280"/>
          </a:xfrm>
          <a:prstGeom prst="rect">
            <a:avLst/>
          </a:prstGeom>
          <a:solidFill>
            <a:srgbClr val="d6b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Remove</a:t>
            </a: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l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32400" y="907920"/>
            <a:ext cx="976320" cy="649440"/>
          </a:xfrm>
          <a:custGeom>
            <a:avLst/>
            <a:gdLst>
              <a:gd name="textAreaLeft" fmla="*/ 0 w 976320"/>
              <a:gd name="textAreaRight" fmla="*/ 976680 w 9763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34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7:31:48Z</dcterms:created>
  <dc:creator>cbock</dc:creator>
  <dc:description/>
  <dc:language>en-US</dc:language>
  <cp:lastModifiedBy>cbock</cp:lastModifiedBy>
  <dcterms:modified xsi:type="dcterms:W3CDTF">2005-02-01T10:26:59Z</dcterms:modified>
  <cp:revision>3</cp:revision>
  <dc:subject/>
  <dc:title>Slide 1</dc:title>
</cp:coreProperties>
</file>