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5A9-D47C-4A80-86C5-34E08282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1CD-5583-4E94-A49F-A7AFF3CF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20B-D7D8-4878-901B-716F1B60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B20-32FA-4CBC-8130-96C5E26C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985-F920-4A56-845E-268B38B0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2CD-3731-4398-A0F5-5CBF4DDC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2AE-5A82-4ECA-8590-9F726A95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562-BA51-483B-B221-ED059F67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4C3-FE96-4CEC-A62A-D7D698EB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0FB-7A4A-4452-A85C-7BBA5EC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BC2-BB70-4783-883A-30D767E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B32-ADE9-44FB-80F3-36F1C171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E811-F877-42E4-8C20-9C7F1D947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3680" y="907920"/>
            <a:ext cx="976320" cy="649440"/>
          </a:xfrm>
          <a:custGeom>
            <a:avLst/>
            <a:gdLst>
              <a:gd name="textAreaLeft" fmla="*/ 0 w 976320"/>
              <a:gd name="textAreaRight" fmla="*/ 976680 w 976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40400" y="907920"/>
            <a:ext cx="976320" cy="649440"/>
          </a:xfrm>
          <a:custGeom>
            <a:avLst/>
            <a:gdLst>
              <a:gd name="textAreaLeft" fmla="*/ 0 w 976320"/>
              <a:gd name="textAreaRight" fmla="*/ 976680 w 976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907920"/>
            <a:ext cx="2448000" cy="649440"/>
          </a:xfrm>
          <a:prstGeom prst="rect">
            <a:avLst/>
          </a:prstGeom>
          <a:solidFill>
            <a:srgbClr val="d6b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11320" y="907920"/>
            <a:ext cx="976320" cy="649440"/>
          </a:xfrm>
          <a:custGeom>
            <a:avLst/>
            <a:gdLst>
              <a:gd name="textAreaLeft" fmla="*/ 0 w 976320"/>
              <a:gd name="textAreaRight" fmla="*/ 976680 w 976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907920"/>
            <a:ext cx="30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1557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1220760"/>
            <a:ext cx="719280" cy="287280"/>
          </a:xfrm>
          <a:prstGeom prst="rect">
            <a:avLst/>
          </a:pr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rrect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ver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90792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ntrol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1220760"/>
            <a:ext cx="718920" cy="287280"/>
          </a:xfrm>
          <a:prstGeom prst="rect">
            <a:avLst/>
          </a:pr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pprove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an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220760"/>
            <a:ext cx="718920" cy="287280"/>
          </a:xfrm>
          <a:prstGeom prst="rect">
            <a:avLst/>
          </a:pr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ove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rone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1220760"/>
            <a:ext cx="719280" cy="287280"/>
          </a:xfrm>
          <a:prstGeom prst="rect">
            <a:avLst/>
          </a:pr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ove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32400" y="907920"/>
            <a:ext cx="976320" cy="649440"/>
          </a:xfrm>
          <a:custGeom>
            <a:avLst/>
            <a:gdLst>
              <a:gd name="textAreaLeft" fmla="*/ 0 w 976320"/>
              <a:gd name="textAreaRight" fmla="*/ 976680 w 976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7:31:48Z</dcterms:created>
  <dc:creator>cbock</dc:creator>
  <dc:description/>
  <dc:language>en-US</dc:language>
  <cp:lastModifiedBy>cbock</cp:lastModifiedBy>
  <dcterms:modified xsi:type="dcterms:W3CDTF">2005-02-01T10:26:59Z</dcterms:modified>
  <cp:revision>3</cp:revision>
  <dc:subject/>
  <dc:title>Slide 1</dc:title>
</cp:coreProperties>
</file>